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BD6-063C-4945-B40E-E47CBDC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B96-0A2C-468A-9180-38D555C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3E8-5ED4-43BC-87D5-C558CFA6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70B-AA7E-489E-BA25-0E489ED1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037-3D44-4EC8-B573-68B1BCA8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73D8-B3AE-48B2-8124-77BD6603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5FB3-C5A9-4BA2-8EF0-75D011D0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4D9E-EF97-4D46-8E70-75285553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6173-5454-4892-9311-4427E7E6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C9CC-1790-4879-8FBE-A61BB90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12A-9E21-4249-8C01-60567CD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379-45F9-4C85-A15D-06CD3C3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7583-71CD-4260-8558-6EBA8491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DE09-C5B9-4AC2-96B0-2733CCFD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BD32-E2C1-437E-9229-9B01857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C1A-FB38-475A-898E-19AFAD9D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CCF-C9F1-4637-BCF7-E2B10445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2CB-7620-4926-91BA-00707DC3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841-D686-4EF2-B563-281E36B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D7C-AEFF-47AD-AD9A-B01AA130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50D-A678-4660-AD6A-290D310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A7B-A5CE-4365-A1DE-7F65C94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DAA-9734-455A-B4BE-DEDC0D8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483-1A0D-40E4-880C-0B66456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58D-124B-4B96-9DEE-056BE30ED8D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656E-DE4B-4405-BCB4-665E0776B6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 ca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514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: Manoj Donepu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patio. Lo es muy lujoso, grande, y fabulos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piscina. Lo es muy bonita, y muy gran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 thanks to the buil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ide made by Manoj Donepu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tures from Google im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91520" cy="4927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a es mi casa. Lo es muy grande, muy lujosa, y muy fantastic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comedor. Lo es muy bonita, grande, y magnifiso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457200"/>
            <a:ext cx="6934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a es mi cochina. Lo es moderna, lujosa, y muy estupend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cuarto. Lo es muy fabuloso, y grand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bano. Lo es moderno, grande, y muy faboloso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jardin. Lo es bonita, y lujos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garaje. Lo es muy grande, y epic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a es mi sala. Lo es muy grande, y lujos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25Z</dcterms:created>
  <dc:creator>donepudiman</dc:creator>
  <dc:description/>
  <dc:language>en-US</dc:language>
  <cp:lastModifiedBy>donepudiman</cp:lastModifiedBy>
  <dcterms:modified xsi:type="dcterms:W3CDTF">2012-03-28T17:43:10Z</dcterms:modified>
  <cp:revision>4</cp:revision>
  <dc:subject/>
  <dc:title>Mi casa</dc:title>
</cp:coreProperties>
</file>